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9525-454F-4581-9652-7E68D0DEB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2C1A-2115-4A18-BD53-47CF33FC7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84F7F-FC3E-47C8-AAB1-A5D88AA8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C98F-37DB-463F-A39C-D0DD801AB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99FD3-2F23-491C-9508-918C4CCB4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04785-26F0-44CF-8382-1BE23CBDC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4038E-4332-4643-B2FA-89557B5CB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12117-007D-43D6-81EC-F6533644B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E397C-B92A-49C1-9CD5-0E212765E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74CDC-A06D-4444-924C-7D637069E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8F50C-B22B-4D25-8FE9-E4C2CC394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5B88A-AB34-4D08-BB72-0A44B5BE8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120E6-ABD7-4EA7-8716-C231CEA3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1890-2C6B-491A-8583-2A94656E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BA54-DAC8-4981-9ACB-B4B11206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0841-1F7E-4A7B-9AA7-80F8EF945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0030F-4DA6-45CB-809D-48493FE92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2B89A-8CB6-4171-A4F4-6B48ED85A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6E299-D756-4468-9053-A7B37488F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0585-3236-42BA-AAE4-6F5C3825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AE9B-5C7B-4C10-A55F-22703196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3E0BD-C515-4168-8B9A-09A07B721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4EA51-DF83-425C-A46D-0A287125A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1693-E132-492F-ACEE-9F79E522E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D36C-D3AD-4C96-A432-03C70B96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3540-A930-45F4-ADE8-715538BD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FDC5-C5A7-42C0-852D-4DA1F73600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64D1-6B93-40CD-8917-EB0195BAED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to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2T00:25:39Z</dcterms:modified>
  <cp:revision>41</cp:revision>
  <dc:subject/>
  <dc:title>acids and bases</dc:title>
</cp:coreProperties>
</file>